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D2D-F5A4-44AC-8119-2373A4F3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B2D-41E3-4968-8958-40E3CCF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F67-AE5A-4BFE-9C39-35B9DB38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28D-DDFA-45C4-94D5-22C9CAAE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140-F064-4822-B520-3B4708F2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969-99B6-4616-B071-36D6000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C5B-8F75-45D9-ACC6-266F43DB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FEE-C48C-48BC-9020-EC422B1C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B4F-84D9-4919-8EB1-2F9C6A2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780-7818-4867-85EC-644290C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A80-2D08-4A94-A8FA-16F279E3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90B-C3E7-4740-B7A0-1B1E31D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2790-530B-4E08-9F6B-F497E2CC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pre 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ric Ash and Andreas Pa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hey lived in Central Mexico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Capital is Tenochtitlan (built on a lak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hey believe in many gods (polytheistic) and one of the gods Quetzalcoatl.  According to legend, this god had sailed away years before but had promised to retu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Controlled many  other tribes, forced them to give them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Used other tribes as slaves and human sacrifice (importa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24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151524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ku.e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4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4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361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uhaus 93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Located on the Andes Mountains,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The capital is Cuz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Polytheistic (believed in many gods). No written language, but had spoken language  (used not as messag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Practiced animal sacrifice and on special occasions human sacrifice (childr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auhaus 93"/>
              </a:rPr>
              <a:t>They had a civil war with the Spanish and Cortez (when two or more groups of people are fighting in the same count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190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7772400" y="608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Lived in Yucatan Penins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Not just one major city was much harder for Conquistadors to over 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Region did not conation as much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Polytheistic (believed in many Go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Had slaves, who could sometimes gain there freedom.</a:t>
            </a:r>
            <a:r>
              <a:rPr b="0" lang="en-US" sz="32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047800" y="14472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ku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e traveled with 500 men and 16 horses to conquer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Other Native Indian groups helped the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</a:rPr>
              <a:t>Aztecs believed  that the light skinned Quetzalcoatl would one day return to rule his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In 1531 Francisco, Pizarro and a group of a 180 solders explored the West coast of South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ey went and searched of the richest of the Inca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or months they traveled the Andes mounta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d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anish explorers and conquistadors changed Central and South America by today most of  Central and South America speak Spanish. A lot of Aztec, Inca, Maya culture and traditions have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6:46Z</dcterms:created>
  <dc:creator>jklib</dc:creator>
  <dc:description/>
  <dc:language>en-US</dc:language>
  <cp:lastModifiedBy>jklib</cp:lastModifiedBy>
  <dcterms:modified xsi:type="dcterms:W3CDTF">2011-11-30T16:08:09Z</dcterms:modified>
  <cp:revision>6</cp:revision>
  <dc:subject/>
  <dc:title>Conquistadors and pre Columbian civilization</dc:title>
</cp:coreProperties>
</file>